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38F6-DC1A-4416-8EC1-F44381AB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C720-D3E9-4D14-8389-75D7A3A5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F9C4-A369-40D0-98F1-84132CB0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42D1-9D14-46EF-BDB2-ACE0D3AD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356-96E3-4801-A346-C30EC04E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E10-106D-48A5-A08B-F475509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3A78-6585-4F43-ACF4-C21DEE1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D3F5-0A35-47D9-B494-B82FBC73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FAC8-D957-4CE0-9C7E-3A6B992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0E2F-2957-4926-8C65-6D1E01B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68D7-53DB-497A-9B5E-C600845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B456-43E4-482C-A8D8-C3EDBF2F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6AEF-0840-4A9C-871D-04C58F7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DC7B-EE90-4329-9B83-7679776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5CBD-F6DD-4D8B-91DC-2FD1DFFE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4625-37B9-4C95-AD60-8FA04EB1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9068-FDD2-4604-8475-567CCC51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F16F-39E8-4BD2-A32A-8214764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86AF-F7BF-49C8-9F1A-814FFAB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0911-4375-4F6D-926C-3D604D2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1EE2-4BAF-4350-8A93-A536F725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504E-B45C-492C-9855-C9BA3F6E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8D4D-593F-455E-ADC9-207479F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1497-B632-47AA-8B64-C87F0AB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FE57-FC8D-4E84-945C-54FD8C0624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31D1-D09A-40FD-ACB1-E7815F760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Documents and Settings\Fenesi Gyozo\Desktop\Tema de casa Modul 4\Aplicatia\TABLOU_N.EXE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hyperlink" Target="C:\Documents and Settings\Fenesi Gyozo\Desktop\Tema de casa Modul 4\Aplicatia\TABLOU_N.PAS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nfoliceu.webnode.com/clasa-a-x-a-pascal/vectori/" TargetMode="External"/><Relationship Id="rId2" Type="http://schemas.openxmlformats.org/officeDocument/2006/relationships/hyperlink" Target="http://infoliceu.webnode.com/clasa-a-x-a-pascal/vector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IRURI DE VALOR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OU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enesi Gyo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RURI DE VALO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viata de zi cu zi ne intalnim de multe ori cu situatia in care trebuie sa analizam un set de valori de acelasi ti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tfel de structura se numest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ar valorile respective se numesc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ementele sirulu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Contraexemplu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ca am avea, de exemplu, 100 de elevi am putea declara pentru fiecare elev cate o variabila, lucru ce ar fi total inefici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plus, algortimii trebuie sa indeplineasca proprietatea ca sunt generali adica nu lucreaza cu seturi de date particul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tfel, daca stim ca avem n elevi (n citit de la tastatura sau din fisier) nu putem sa declaram n variabile pentru ca la fiecare rulare a programului valoarea lui n se poate schimb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r de elemente si rangul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tru a memora toate elementele unui sir intr-o variabila indexata, in care elementele sunt dispuse intr-o anumita ordine, ocupand pozitii successive bine-determinate vom folos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ctor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u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blouri unidimensiona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i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cele (rangul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lementului pozitia pe care se afla un element in ve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4191120"/>
            <a:ext cx="3213000" cy="2114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97200" y="62974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z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ouri no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upunem ca avem tabloul note: Note=(5,7,9,7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a_notelor = (note[1]+note[2]+note[3]+note[4])/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einteles, pentru fiecare nota puteam folosi cate o variabila. Insa, daca la un elev sunt 4 note in rubrica, la altul sunt 3, la altul sunt 5 s.a.m.d lucrurile se schimb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stfel de cazuri trebuie sa citim n (numarul de note) si sa citim notele pe r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562720"/>
            <a:ext cx="144792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562720"/>
            <a:ext cx="144756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5562720"/>
            <a:ext cx="144756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562720"/>
            <a:ext cx="144792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79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579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5791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lizarea practic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lararea tabloului si incarcarea cu notele citite de la tastatur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r: ARRAY[1..50] of inte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(‘n=‘); readln(n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:=1 to n 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(‘Nota[‘,i,’]=’); readln(sir[i]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LICAT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gramul de mai jos citeste notele unui elev de la tstatura si le afiseaza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4267080"/>
          <a:ext cx="182880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267080"/>
                    <a:ext cx="1828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562720" y="4191120"/>
          <a:ext cx="167616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191120"/>
                    <a:ext cx="16761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400800" y="3200400"/>
            <a:ext cx="1905120" cy="609480"/>
          </a:xfrm>
          <a:prstGeom prst="wedgeRectCallout">
            <a:avLst>
              <a:gd name="adj1" fmla="val -37083"/>
              <a:gd name="adj2" fmla="val 10885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rsa program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200400"/>
            <a:ext cx="1904760" cy="609480"/>
          </a:xfrm>
          <a:prstGeom prst="wedgeRectCallout">
            <a:avLst>
              <a:gd name="adj1" fmla="val -49083"/>
              <a:gd name="adj2" fmla="val 12552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gramul executa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F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infoliceu.webnode.com/clasa-a-x-a-pascal/vectori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pascal.comuv.com/tablouri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bitcell.info/tutorial-pascal-lectia-4-vectori-tablouri-matrici-t54.ht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http://ro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pt-BR" sz="3200" spc="-1" strike="noStrike" u="sng">
                <a:solidFill>
                  <a:srgbClr val="ffcc00"/>
                </a:solidFill>
                <a:uFillTx/>
                <a:latin typeface="Garamond"/>
              </a:rPr>
              <a:t>oza1</a:t>
            </a: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:</a:t>
            </a: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http://www.scritube.com/files/informatica/java/41_poze/image007.jp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eni Petru</cp:lastModifiedBy>
  <dcterms:modified xsi:type="dcterms:W3CDTF">2010-12-15T20:58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